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2.gif" ContentType="image/gif"/>
  <Override PartName="/ppt/media/image9.png" ContentType="image/png"/>
  <Override PartName="/ppt/media/image12.png" ContentType="image/png"/>
  <Override PartName="/ppt/media/image7.png" ContentType="image/png"/>
  <Override PartName="/ppt/media/image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3.wmf" ContentType="image/x-wmf"/>
  <Override PartName="/ppt/media/image15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E29BE-F65D-4D3D-96CD-1E789DE20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305F9-C899-40D2-B7A7-4F74181A8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61DB-D3FF-42AE-8037-7D4340225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CC38-3B71-4CE0-894E-09AEE7BD9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D9CB-06E1-4B24-B80C-B91EA22A6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8560-73DE-4694-851F-857A28D8E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EA7E-29D0-4D86-BD5F-5A0967C3F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9CA3-33A6-4655-9165-F3F366861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D7D0-0053-48CE-A7DA-7DEDE6974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4DA6-9869-45F2-86EB-054D2B3A6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304F-DE02-47EF-B324-286727F32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6AF4-1CD5-411C-A3B6-8D51EFF5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83D0-B046-4832-BA9A-8E46C81F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33C4-088D-44C2-B92C-47D35BC3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E4FAE-682B-4AFB-A7F7-AA4EF67F9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hyperlink" Target="http://images.google.com/imgres?imgurl=http://www.pathguy.com/sol/03467.jpg&amp;imgrefurl=http://www.pathguy.com/lectures/heart.htm&amp;usg=__3BV3kSgeji5YpiaMcTxzUqRltvo=&amp;h=564&amp;w=1000&amp;sz=115&amp;hl=en&amp;start=7&amp;sig2=cGrnr6lxG5ijOHeKFYHDgg&amp;zoom=1&amp;tbnid=5wxzdabzY6VQLM:&amp;tbnh=84&amp;tbnw=149&amp;ei=U-7hTe7OBIvysgbz353dBQ&amp;prev=/search%3Fq%3DHistology%2Bof%2Bthe%2Bpatent%2Bductus%2Barteriosus%26hl%3Den%26sa%3DX%26gbv%3D2%26tbm%3Disch&amp;itbs=1" TargetMode="Externa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КАРДИОЛИГ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оф. др Ј. Кнежев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1128600" y="879480"/>
            <a:ext cx="5438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1433520" y="1336680"/>
            <a:ext cx="3914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297180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3429000" y="380880"/>
            <a:ext cx="5410080" cy="33163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7"/>
          <p:cNvSpPr/>
          <p:nvPr/>
        </p:nvSpPr>
        <p:spPr>
          <a:xfrm>
            <a:off x="369000" y="1146240"/>
            <a:ext cx="7332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ASD-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Patofiziolog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L-D š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&gt; Protok kroz pluć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Veličina šanta zavisi 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Veličine defek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Relativne komplijansa D i L komore (n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Relativna vaskul. rezist. plućne i sistemske cirkulaci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2594160" y="5943600"/>
            <a:ext cx="3928320" cy="459720"/>
          </a:xfrm>
          <a:prstGeom prst="rect">
            <a:avLst/>
          </a:prstGeom>
          <a:noFill/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Qp:Qs 2:1 do 4:1-veliki defe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1383840" y="795240"/>
            <a:ext cx="234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VSD  patolog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295280" y="4419720"/>
            <a:ext cx="72392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3174840" y="1828800"/>
            <a:ext cx="3902400" cy="50292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268560" y="2722680"/>
            <a:ext cx="33015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sl-SI" sz="1600" spc="-1" strike="noStrike">
                <a:solidFill>
                  <a:srgbClr val="000000"/>
                </a:solidFill>
                <a:latin typeface="Tahoma"/>
              </a:rPr>
              <a:t> perimemb inlet (AV k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sl-SI" sz="1600" spc="-1" strike="noStrike">
                <a:solidFill>
                  <a:srgbClr val="000000"/>
                </a:solidFill>
                <a:latin typeface="Tahoma"/>
              </a:rPr>
              <a:t> perimem trab- tipičan mem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sl-SI" sz="1600" spc="-1" strike="noStrike">
                <a:solidFill>
                  <a:srgbClr val="000000"/>
                </a:solidFill>
                <a:latin typeface="Tahoma"/>
              </a:rPr>
              <a:t> perimemb inf (T Fallo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sl-SI" sz="1600" spc="-1" strike="noStrike">
                <a:solidFill>
                  <a:srgbClr val="000000"/>
                </a:solidFill>
                <a:latin typeface="Tahoma"/>
              </a:rPr>
              <a:t> inlet mišić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sl-SI" sz="1600" spc="-1" strike="noStrike">
                <a:solidFill>
                  <a:srgbClr val="000000"/>
                </a:solidFill>
                <a:latin typeface="Tahoma"/>
              </a:rPr>
              <a:t> trabekularni mišić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sl-SI" sz="1600" spc="-1" strike="noStrike">
                <a:solidFill>
                  <a:srgbClr val="000000"/>
                </a:solidFill>
                <a:latin typeface="Tahoma"/>
              </a:rPr>
              <a:t> infunib mišić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sl-SI" sz="1600" spc="-1" strike="noStrike">
                <a:solidFill>
                  <a:srgbClr val="000000"/>
                </a:solidFill>
                <a:latin typeface="Tahoma"/>
              </a:rPr>
              <a:t> subarterijski infund suprakr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ahoma"/>
              </a:rPr>
              <a:t>Crno</a:t>
            </a:r>
            <a:r>
              <a:rPr b="0" lang="sl-SI" sz="1600" spc="-1" strike="noStrike">
                <a:solidFill>
                  <a:srgbClr val="000000"/>
                </a:solidFill>
                <a:latin typeface="Tahoma"/>
              </a:rPr>
              <a:t>- membranozni d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297000" y="5442120"/>
            <a:ext cx="174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</a:rPr>
              <a:t>Membranozn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</a:rPr>
              <a:t>Mišićn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VSD DIJ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384200" y="2090880"/>
            <a:ext cx="5727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Object 4"/>
          <p:cNvGraphicFramePr/>
          <p:nvPr/>
        </p:nvGraphicFramePr>
        <p:xfrm>
          <a:off x="1655640" y="2514600"/>
          <a:ext cx="58309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5640" y="2514600"/>
                    <a:ext cx="58309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Anatom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fig05"/>
          <p:cNvPicPr/>
          <p:nvPr/>
        </p:nvPicPr>
        <p:blipFill>
          <a:blip r:embed="rId1"/>
          <a:stretch/>
        </p:blipFill>
        <p:spPr>
          <a:xfrm>
            <a:off x="762120" y="4114800"/>
            <a:ext cx="2790720" cy="22557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Patent-Ductus-Arteriosus-PDA"/>
          <p:cNvPicPr/>
          <p:nvPr/>
        </p:nvPicPr>
        <p:blipFill>
          <a:blip r:embed="rId2"/>
          <a:stretch/>
        </p:blipFill>
        <p:spPr>
          <a:xfrm>
            <a:off x="4038480" y="3352680"/>
            <a:ext cx="3295800" cy="32655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ha0570089f06"/>
          <p:cNvPicPr/>
          <p:nvPr/>
        </p:nvPicPr>
        <p:blipFill>
          <a:blip r:embed="rId3"/>
          <a:stretch/>
        </p:blipFill>
        <p:spPr>
          <a:xfrm>
            <a:off x="838080" y="1295280"/>
            <a:ext cx="2895840" cy="2621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ANd9GcRh6ZaGCMgHelFIZ4Mti-OH9WcJ_iECJGKaiA6EftomjS9aL_SrNLmahetH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562720" y="1371600"/>
            <a:ext cx="3171600" cy="17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G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Object 4"/>
          <p:cNvGraphicFramePr/>
          <p:nvPr/>
        </p:nvGraphicFramePr>
        <p:xfrm>
          <a:off x="2552760" y="1728720"/>
          <a:ext cx="403848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2760" y="1728720"/>
                    <a:ext cx="403848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Tetralogia Fall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iroka, jašuća, dextropinirana i anteponirana aor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ubaortni VS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epotpuna opstrukcija RVOT (infundibularna stenoz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Hipertrofija desne ko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65520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AORTNA STENO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5% SVIH U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V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2% odrasli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M:Ž=4: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AJČEŠĆE VALVULA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UDRUŽENE –MV, ao luk, VSD,P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FIBROELASTOZA-kritična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6689880" y="194940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Aortic Stenosis Diagram - Bicuspid Heart Valve"/>
          <p:cNvPicPr/>
          <p:nvPr/>
        </p:nvPicPr>
        <p:blipFill>
          <a:blip r:embed="rId1"/>
          <a:stretch/>
        </p:blipFill>
        <p:spPr>
          <a:xfrm>
            <a:off x="6724800" y="1447920"/>
            <a:ext cx="241920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PATOGENE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HEMODINAMSKA HIPOTEZA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EKTOPIČNO DUKTALNO TKIVO-zatvranje DAP-razvija s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kta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4251240" y="3765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Object 5"/>
          <p:cNvGraphicFramePr/>
          <p:nvPr/>
        </p:nvGraphicFramePr>
        <p:xfrm>
          <a:off x="4648320" y="2438280"/>
          <a:ext cx="4038480" cy="28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438280"/>
                    <a:ext cx="4038480" cy="28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716864-fig1"/>
          <p:cNvPicPr/>
          <p:nvPr/>
        </p:nvPicPr>
        <p:blipFill>
          <a:blip r:embed="rId1"/>
          <a:stretch/>
        </p:blipFill>
        <p:spPr>
          <a:xfrm>
            <a:off x="3429000" y="609480"/>
            <a:ext cx="5477040" cy="477216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3850920" y="5851440"/>
            <a:ext cx="49737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evalence of prehypertension and hypertension in the 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between 1988 and 2006 among children aged 8-17 year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ata from Ostchega, Y. </a:t>
            </a:r>
            <a:r>
              <a:rPr b="1" i="1" lang="en-US" sz="1000" spc="-1" strike="noStrike">
                <a:solidFill>
                  <a:srgbClr val="000000"/>
                </a:solidFill>
                <a:latin typeface="Tahoma"/>
              </a:rPr>
              <a:t>et al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rends of elevated blood pressure among children and adolescent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ata from the National Health and Nutrition Examination Survey 1988-2006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ahoma"/>
              </a:rPr>
              <a:t>Am. J. Hypertens.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22, 59-67 (2009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365040" y="1098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children_with_obesity_high_blood_pressure_diabetes_and_high_cholesterol"/>
          <p:cNvPicPr/>
          <p:nvPr/>
        </p:nvPicPr>
        <p:blipFill>
          <a:blip r:embed="rId2"/>
          <a:stretch/>
        </p:blipFill>
        <p:spPr>
          <a:xfrm>
            <a:off x="380880" y="762120"/>
            <a:ext cx="2590920" cy="19875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441360" y="3384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365040" y="3156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0" y="3079800"/>
            <a:ext cx="3243240" cy="3753000"/>
          </a:xfrm>
          <a:prstGeom prst="rect">
            <a:avLst/>
          </a:prstGeom>
          <a:solidFill>
            <a:srgbClr val="ffcc99"/>
          </a:solidFill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cc00ff"/>
                </a:solidFill>
                <a:latin typeface="Times New Roman"/>
              </a:rPr>
              <a:t>USM</a:t>
            </a:r>
            <a:r>
              <a:rPr b="1" lang="en-US" sz="2000" spc="-1" strike="noStrike">
                <a:solidFill>
                  <a:srgbClr val="cc00ff"/>
                </a:solidFill>
                <a:latin typeface="Times New Roman"/>
              </a:rPr>
              <a:t> </a:t>
            </a:r>
            <a:r>
              <a:rPr b="1" lang="sr-Latn-CS" sz="2000" spc="-1" strike="noStrike">
                <a:solidFill>
                  <a:srgbClr val="cc00ff"/>
                </a:solidFill>
                <a:latin typeface="Times New Roman"/>
              </a:rPr>
              <a:t>                  </a:t>
            </a:r>
            <a:r>
              <a:rPr b="1" lang="en-US" sz="2000" spc="-1" strike="noStrike">
                <a:solidFill>
                  <a:srgbClr val="cc00ff"/>
                </a:solidFill>
                <a:latin typeface="Times New Roman"/>
              </a:rPr>
              <a:t> 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Times New Roman"/>
              </a:rPr>
              <a:t>Epileps</a:t>
            </a:r>
            <a:r>
              <a:rPr b="1" lang="sr-Latn-CS" sz="2000" spc="-1" strike="noStrike">
                <a:solidFill>
                  <a:srgbClr val="cc00ff"/>
                </a:solidFill>
                <a:latin typeface="Times New Roman"/>
              </a:rPr>
              <a:t>ija         </a:t>
            </a:r>
            <a:r>
              <a:rPr b="1" lang="en-US" sz="20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sr-Latn-CS" sz="2000" spc="-1" strike="noStrike">
                <a:solidFill>
                  <a:srgbClr val="cc00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cc00ff"/>
                </a:solidFill>
                <a:latin typeface="Times New Roman"/>
              </a:rPr>
              <a:t>3-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Times New Roman"/>
              </a:rPr>
              <a:t>ADHD</a:t>
            </a:r>
            <a:r>
              <a:rPr b="1" lang="sr-Latn-CS" sz="2000" spc="-1" strike="noStrike">
                <a:solidFill>
                  <a:srgbClr val="cc00ff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cc00ff"/>
                </a:solidFill>
                <a:latin typeface="Times New Roman"/>
              </a:rPr>
              <a:t>           3-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Times New Roman"/>
              </a:rPr>
              <a:t>H</a:t>
            </a:r>
            <a:r>
              <a:rPr b="1" lang="sr-Latn-CS" sz="2000" spc="-1" strike="noStrike">
                <a:solidFill>
                  <a:srgbClr val="cc00ff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cc00ff"/>
                </a:solidFill>
                <a:latin typeface="Times New Roman"/>
              </a:rPr>
              <a:t>perten</a:t>
            </a:r>
            <a:r>
              <a:rPr b="1" lang="sr-Latn-CS" sz="2000" spc="-1" strike="noStrike">
                <a:solidFill>
                  <a:srgbClr val="cc00ff"/>
                </a:solidFill>
                <a:latin typeface="Times New Roman"/>
              </a:rPr>
              <a:t>zija  </a:t>
            </a:r>
            <a:r>
              <a:rPr b="1" lang="en-US" sz="2000" spc="-1" strike="noStrike">
                <a:solidFill>
                  <a:srgbClr val="cc00ff"/>
                </a:solidFill>
                <a:latin typeface="Times New Roman"/>
              </a:rPr>
              <a:t> </a:t>
            </a:r>
            <a:r>
              <a:rPr b="1" lang="sr-Latn-CS" sz="2000" spc="-1" strike="noStrike">
                <a:solidFill>
                  <a:srgbClr val="cc00ff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cc00ff"/>
                </a:solidFill>
                <a:latin typeface="Times New Roman"/>
              </a:rPr>
              <a:t>4 -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Times New Roman"/>
              </a:rPr>
              <a:t>Asthma</a:t>
            </a:r>
            <a:r>
              <a:rPr b="1" lang="en-US" sz="2000" spc="-1" strike="noStrike">
                <a:solidFill>
                  <a:srgbClr val="cc00ff"/>
                </a:solidFill>
                <a:latin typeface="Times New Roman"/>
              </a:rPr>
              <a:t>	</a:t>
            </a:r>
            <a:r>
              <a:rPr b="1" lang="sr-Latn-CS" sz="2000" spc="-1" strike="noStrike">
                <a:solidFill>
                  <a:srgbClr val="cc00ff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sr-Latn-CS" sz="2000" spc="-1" strike="noStrike">
                <a:solidFill>
                  <a:srgbClr val="cc00ff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cc00ff"/>
                </a:solidFill>
                <a:latin typeface="Times New Roman"/>
              </a:rPr>
              <a:t>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cc00ff"/>
                </a:solidFill>
                <a:latin typeface="Times New Roman"/>
              </a:rPr>
              <a:t>Gojaznost         </a:t>
            </a:r>
            <a:r>
              <a:rPr b="1" lang="en-US" sz="2000" spc="-1" strike="noStrike">
                <a:solidFill>
                  <a:srgbClr val="cc00ff"/>
                </a:solidFill>
                <a:latin typeface="Times New Roman"/>
              </a:rPr>
              <a:t>  18-2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Algoritam za dijagnozu hipertenz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1278000" y="1649520"/>
            <a:ext cx="712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Garamond"/>
              </a:rPr>
              <a:t>___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3007440" y="2209680"/>
            <a:ext cx="2103840" cy="4597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Garamond"/>
              </a:rPr>
              <a:t>SKP i/ili DK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2062080" y="2743200"/>
            <a:ext cx="375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Garamond"/>
              </a:rPr>
              <a:t>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1356840" y="3581280"/>
            <a:ext cx="947160" cy="4597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&lt;</a:t>
            </a:r>
            <a:r>
              <a:rPr b="1" lang="sr-Latn-CS" sz="2400" spc="-1" strike="noStrike">
                <a:solidFill>
                  <a:srgbClr val="000000"/>
                </a:solidFill>
                <a:latin typeface="Garamond"/>
              </a:rPr>
              <a:t>P90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748800" y="4572000"/>
            <a:ext cx="2312640" cy="4597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Garamond"/>
              </a:rPr>
              <a:t>Normotenz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5943600" y="3276720"/>
            <a:ext cx="1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≥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6118200" y="3421080"/>
            <a:ext cx="1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5352840" y="3124080"/>
            <a:ext cx="1032480" cy="4597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≥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Garamond"/>
              </a:rPr>
              <a:t>P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4644360" y="3809880"/>
            <a:ext cx="2843280" cy="4597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Garamond"/>
              </a:rPr>
              <a:t>Ponoviti mere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4052520" y="4267080"/>
            <a:ext cx="39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Garamond"/>
              </a:rPr>
              <a:t>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3567600" y="5029200"/>
            <a:ext cx="887760" cy="4597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&lt;</a:t>
            </a:r>
            <a:r>
              <a:rPr b="1" lang="sr-Latn-CS" sz="2400" spc="-1" strike="noStrike">
                <a:solidFill>
                  <a:srgbClr val="000000"/>
                </a:solidFill>
                <a:latin typeface="Garamond"/>
              </a:rPr>
              <a:t>P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4"/>
          <p:cNvSpPr/>
          <p:nvPr/>
        </p:nvSpPr>
        <p:spPr>
          <a:xfrm>
            <a:off x="5356080" y="4876920"/>
            <a:ext cx="1153080" cy="4597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Garamond"/>
              </a:rPr>
              <a:t>P90-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5"/>
          <p:cNvSpPr/>
          <p:nvPr/>
        </p:nvSpPr>
        <p:spPr>
          <a:xfrm>
            <a:off x="7377840" y="4800600"/>
            <a:ext cx="887760" cy="4597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&gt;</a:t>
            </a:r>
            <a:r>
              <a:rPr b="1" lang="sr-Latn-CS" sz="2400" spc="-1" strike="noStrike">
                <a:solidFill>
                  <a:srgbClr val="000000"/>
                </a:solidFill>
                <a:latin typeface="Garamond"/>
              </a:rPr>
              <a:t>P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6"/>
          <p:cNvSpPr/>
          <p:nvPr/>
        </p:nvSpPr>
        <p:spPr>
          <a:xfrm>
            <a:off x="3375000" y="5630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7"/>
          <p:cNvSpPr/>
          <p:nvPr/>
        </p:nvSpPr>
        <p:spPr>
          <a:xfrm>
            <a:off x="2958480" y="5867280"/>
            <a:ext cx="2312640" cy="4597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Garamond"/>
              </a:rPr>
              <a:t>Normotenz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8"/>
          <p:cNvSpPr/>
          <p:nvPr/>
        </p:nvSpPr>
        <p:spPr>
          <a:xfrm>
            <a:off x="5139000" y="5410080"/>
            <a:ext cx="1593360" cy="4597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Garamond"/>
              </a:rPr>
              <a:t>Praćenje</a:t>
            </a:r>
            <a:r>
              <a:rPr b="0" lang="sr-Latn-CS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9"/>
          <p:cNvSpPr/>
          <p:nvPr/>
        </p:nvSpPr>
        <p:spPr>
          <a:xfrm>
            <a:off x="6934320" y="5257800"/>
            <a:ext cx="1828800" cy="8254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Garamond"/>
              </a:rPr>
              <a:t>Hipertenz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0"/>
          <p:cNvSpPr/>
          <p:nvPr/>
        </p:nvSpPr>
        <p:spPr>
          <a:xfrm>
            <a:off x="5132520" y="6035760"/>
            <a:ext cx="154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Garamond"/>
              </a:rPr>
              <a:t>Ponovi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Garamond"/>
              </a:rPr>
              <a:t>mere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1"/>
          <p:cNvSpPr/>
          <p:nvPr/>
        </p:nvSpPr>
        <p:spPr>
          <a:xfrm>
            <a:off x="6879960" y="5670720"/>
            <a:ext cx="179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Garamond"/>
              </a:rPr>
              <a:t>Evalua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Garamond"/>
              </a:rPr>
              <a:t>Etiologi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Garamond"/>
              </a:rPr>
              <a:t>Ošteć. 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2"/>
          <p:cNvSpPr/>
          <p:nvPr/>
        </p:nvSpPr>
        <p:spPr>
          <a:xfrm>
            <a:off x="1981080" y="3124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3"/>
          <p:cNvSpPr/>
          <p:nvPr/>
        </p:nvSpPr>
        <p:spPr>
          <a:xfrm>
            <a:off x="1905120" y="411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4"/>
          <p:cNvSpPr/>
          <p:nvPr/>
        </p:nvSpPr>
        <p:spPr>
          <a:xfrm>
            <a:off x="5867280" y="3581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5"/>
          <p:cNvSpPr/>
          <p:nvPr/>
        </p:nvSpPr>
        <p:spPr>
          <a:xfrm flipH="1">
            <a:off x="3962160" y="4724280"/>
            <a:ext cx="759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6"/>
          <p:cNvSpPr/>
          <p:nvPr/>
        </p:nvSpPr>
        <p:spPr>
          <a:xfrm>
            <a:off x="57913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7"/>
          <p:cNvSpPr/>
          <p:nvPr/>
        </p:nvSpPr>
        <p:spPr>
          <a:xfrm>
            <a:off x="7620120" y="4572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8"/>
          <p:cNvSpPr/>
          <p:nvPr/>
        </p:nvSpPr>
        <p:spPr>
          <a:xfrm>
            <a:off x="5715000" y="5943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-2289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FETALNA CIRKULAC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IMG00001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3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Antihipertenzivni leko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AC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ARB- antagonisti angiotenzin recept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Beta blokatori -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alcijumski antagonisti-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iuretici-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4"/>
          <p:cNvSpPr/>
          <p:nvPr/>
        </p:nvSpPr>
        <p:spPr>
          <a:xfrm>
            <a:off x="8153280" y="1828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8367840" y="17683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839880" y="838080"/>
            <a:ext cx="22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Visok-normalan K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3719520" y="798480"/>
            <a:ext cx="14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Hipertenz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5929560" y="722160"/>
            <a:ext cx="226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perten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vna kr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i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2655360" y="1865160"/>
            <a:ext cx="377892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Jedano ili više nabrojanih stanj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simptomats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sekunda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oštećenje ciljnih org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diab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6"/>
          <p:cNvSpPr/>
          <p:nvPr/>
        </p:nvSpPr>
        <p:spPr>
          <a:xfrm>
            <a:off x="441972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678240" y="4379760"/>
            <a:ext cx="2780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Nefarmakološki tret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6095880" y="4191120"/>
            <a:ext cx="17305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Farmakološ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ap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9"/>
          <p:cNvSpPr/>
          <p:nvPr/>
        </p:nvSpPr>
        <p:spPr>
          <a:xfrm>
            <a:off x="1600200" y="12952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0"/>
          <p:cNvSpPr/>
          <p:nvPr/>
        </p:nvSpPr>
        <p:spPr>
          <a:xfrm>
            <a:off x="449568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1"/>
          <p:cNvSpPr/>
          <p:nvPr/>
        </p:nvSpPr>
        <p:spPr>
          <a:xfrm flipH="1">
            <a:off x="2819520" y="38098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2"/>
          <p:cNvSpPr/>
          <p:nvPr/>
        </p:nvSpPr>
        <p:spPr>
          <a:xfrm>
            <a:off x="4495680" y="38098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3"/>
          <p:cNvSpPr/>
          <p:nvPr/>
        </p:nvSpPr>
        <p:spPr>
          <a:xfrm>
            <a:off x="7070760" y="1407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4"/>
          <p:cNvSpPr/>
          <p:nvPr/>
        </p:nvSpPr>
        <p:spPr>
          <a:xfrm>
            <a:off x="7543800" y="12193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5"/>
          <p:cNvSpPr/>
          <p:nvPr/>
        </p:nvSpPr>
        <p:spPr>
          <a:xfrm>
            <a:off x="6310800" y="35416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6"/>
          <p:cNvSpPr/>
          <p:nvPr/>
        </p:nvSpPr>
        <p:spPr>
          <a:xfrm>
            <a:off x="6781680" y="38098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7"/>
          <p:cNvSpPr/>
          <p:nvPr/>
        </p:nvSpPr>
        <p:spPr>
          <a:xfrm>
            <a:off x="2196000" y="346536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8"/>
          <p:cNvSpPr/>
          <p:nvPr/>
        </p:nvSpPr>
        <p:spPr>
          <a:xfrm flipH="1">
            <a:off x="1828800" y="3809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66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UPRAVENTRIKULARNA TAHIKARD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1109520" y="2284560"/>
            <a:ext cx="6924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Object 4"/>
          <p:cNvGraphicFramePr/>
          <p:nvPr/>
        </p:nvGraphicFramePr>
        <p:xfrm>
          <a:off x="1295280" y="2286000"/>
          <a:ext cx="754380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286000"/>
                    <a:ext cx="75438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Text Box 5"/>
          <p:cNvSpPr/>
          <p:nvPr/>
        </p:nvSpPr>
        <p:spPr>
          <a:xfrm>
            <a:off x="1575360" y="4079880"/>
            <a:ext cx="7314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Impuls iz supraventrikularnog pejsmejkera F 150-250/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Iznad bifurka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P talas može biti pozitivan i stopljen sa prethodnim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ili je prekriven QRS ne razlikuje se od atrijalne T i junk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QRS &lt; 0,11 sec, širok povremeno RBB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Vagusna stimulacija može imati efekta (ili 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TRETMAN SV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timulacija Vagusa-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Valsava manev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tabilni-Adenosin, phenilephrin, tensilon, quinidin, procainamid, propranolol, verapamil(n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1g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, kardioverzija 0,5-2 J k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WPW-(ne digoxin i verapamil)-amioda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ENOZ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OGENI NUKLEOT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VODI DO AV BLOKA I BLOKA AKCESORNOG PU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ETMAN SV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RATAK POL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ŽIVOT (10 se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VA KUBITALNA V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OLUS 3-5 ml FIZIOLOŠK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ZA LEKA 0,1 mg/k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RUGA PONOVLJENA DOZA JE ZA 0,05 mg/kg VEĆA DO MAX DOZE OD 0,25mg/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fekat vidljiv za 7-20 s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oza može biti duplo veća do max 300μg/k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ili adultna doza od 6-12 mg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KO JE BEZ EFEKTA ZA PAR MINUTA DATI INDERAL 0,05-0,1 mg/kg SPORO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KO JE NAPAD UPORAN -ELEKTROKARDIOVERZ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7070760" y="341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5" descr=""/>
          <p:cNvPicPr/>
          <p:nvPr/>
        </p:nvPicPr>
        <p:blipFill>
          <a:blip r:embed="rId1"/>
          <a:stretch/>
        </p:blipFill>
        <p:spPr>
          <a:xfrm>
            <a:off x="7467480" y="228600"/>
            <a:ext cx="1447920" cy="11048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F / VT BEZ PULSA-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ahoma"/>
              </a:rPr>
              <a:t>ŠOKABILNI RITAM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  <a:ea typeface="Tahoma"/>
              </a:rPr>
              <a:t>-ređ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924360" y="2276640"/>
            <a:ext cx="4859280" cy="4192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LEKTRO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ŠO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J k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PR - 2 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I ELEKTRO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Š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PR - 2 MIN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-(4H,4T)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ADRENAL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III ELEKTROŠ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PR -2 MI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AMIODARON-5mg/ k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IV ELEKTRO Š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RENALIN NA 3-5 MINU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ahoma"/>
              </a:rPr>
              <a:t>ŠOK I 2 MIN KP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MIODARON KONTINUIR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289080" y="24703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VF1"/>
          <p:cNvPicPr/>
          <p:nvPr/>
        </p:nvPicPr>
        <p:blipFill>
          <a:blip r:embed="rId1"/>
          <a:stretch/>
        </p:blipFill>
        <p:spPr>
          <a:xfrm>
            <a:off x="304920" y="2362320"/>
            <a:ext cx="3438360" cy="190476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6"/>
          <p:cNvSpPr/>
          <p:nvPr/>
        </p:nvSpPr>
        <p:spPr>
          <a:xfrm>
            <a:off x="212760" y="4070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7" descr="VT1"/>
          <p:cNvPicPr/>
          <p:nvPr/>
        </p:nvPicPr>
        <p:blipFill>
          <a:blip r:embed="rId2"/>
          <a:stretch/>
        </p:blipFill>
        <p:spPr>
          <a:xfrm>
            <a:off x="304920" y="4572000"/>
            <a:ext cx="3352680" cy="198108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8"/>
          <p:cNvSpPr/>
          <p:nvPr/>
        </p:nvSpPr>
        <p:spPr>
          <a:xfrm>
            <a:off x="365040" y="565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220968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KLINIČKE MANIFESTACIJ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OLONGIRANA FEBRILNOST (blagi simptomi nekoliko meseci), bez drugih simptoma (sem gubitka na TT-Streptococcus V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ekada nagli početak sa t intermitentnom i prostracij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especifični simptomi :malgija, artralgija, glavobolja, popodnevna t,muka, povraćanj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v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e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ovi šum ili izmenjen stari i 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plenomegalija i petehije-če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NS- insultl, absces, mikotična aneurizma, hemoragija, -meningizam, izmena senzorij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od Stafilokoka miokardni apsces-oštećenje sprovodnog sistema-ruptura u peri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slerovi čvorići-vaskulitis A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At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omple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PREVENCIJA 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304920" y="990720"/>
          <a:ext cx="8229600" cy="53434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7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tale i oralne proced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T i GUT-visok rizi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xicillin 50 mg kg, 2 g , 1h pre po ili (im , iv-30 min pr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picilin iv ili im 2 g, 50 mg/kg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tamycin iv ili im  1,5 mg kg(120mg) 30 min pre i 6 h posl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ndamycin oralno(alergija na amoxicillin) 20mg kg, 600 mg 1h pre il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faleksin oralno 50 mg kg, 2g, 1 sat pre il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zitromycin 15mg/kg,500mg 1h pr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ergija-visok rizik:Vancomycin 20mg kg (1g odra) tokom1-2h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gentamycin iv im (max 120 mg) infuzija koja počinje 30 min pre proced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AKUTNI PERIKARDITIS’ patofiziolog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erikardna inflamacija vodi do nakupljanja tečnosti u perikardni pros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Tečnost zavisno od uzročnika može biti:serozna, fibrinozna, purulentna ili hemoragič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od tamponade tečnost kompromituje srčani r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od zdrave dece imamo 10-15 ml tečnosti u perikar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ompromitovano punjenje komora u dijastoli, povećan sistemski i plućni venski pritisak-š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ERIKARDITIS 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1660680" y="23814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Object 5"/>
          <p:cNvGraphicFramePr/>
          <p:nvPr/>
        </p:nvGraphicFramePr>
        <p:xfrm>
          <a:off x="2057400" y="2647800"/>
          <a:ext cx="5029200" cy="412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647800"/>
                    <a:ext cx="5029200" cy="412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p9b_KreislaufnachA"/>
          <p:cNvPicPr/>
          <p:nvPr/>
        </p:nvPicPr>
        <p:blipFill>
          <a:blip r:embed="rId1"/>
          <a:stretch/>
        </p:blipFill>
        <p:spPr>
          <a:xfrm>
            <a:off x="1397160" y="0"/>
            <a:ext cx="6349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HO NALA</a:t>
            </a: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1508040" y="245736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Object 5"/>
          <p:cNvGraphicFramePr/>
          <p:nvPr/>
        </p:nvGraphicFramePr>
        <p:xfrm>
          <a:off x="2819520" y="1523880"/>
          <a:ext cx="5105160" cy="467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523880"/>
                    <a:ext cx="5105160" cy="467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ERIKARDITIS lečen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2587320" y="2286000"/>
            <a:ext cx="3967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URULENT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Antibiotici 4-6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MIROV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BUPROF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KOHLICIN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KORTIKOSTEROID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MIOCARD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nflamacija, nekroza ili miocitoli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nfekcija, toksini, bolesti vezivnog tkiva, granulomatoza, idiopats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iokard sa ili bez sistemskih manifest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ajčešće ide sa SI, aritmijama i iznenadnom smrć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Virusni najčešć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KLINIČKA SL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višena tempera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ijanoza, udaljeni srčani tono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labi pulse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ahikardijaveća u odnosu na febril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itralna insuficijencija-dilatacija sr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itam galo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cido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Šo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5848200" y="2251080"/>
            <a:ext cx="256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Virusni hepati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Aseptični menigi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Ra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2758320" y="6095880"/>
            <a:ext cx="42955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Smrt unutar 1-7 dana-fulminant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MIOKARDITIS dijagno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852480" y="1619280"/>
            <a:ext cx="68385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R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normalan, dilatacija src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luća normalna ili kongest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EKG (česte ali nespecifič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sinusna tahikard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mikrovoltaž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romene u ST i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tranzitorni 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slika infark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Aritmije-prvi znak+veliko srce +t-miokardi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5410080" y="2133720"/>
            <a:ext cx="4003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oremećaji sprovođe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AKO PERZISTIRAJ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UKAZUJU NA FIBROZ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LEČEN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ardiogeni šok-Dopamin, Epinefrin, Milrin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ogoxin-oprez-pola do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ericardiocentesis-kod tampon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miodaron kod aritm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ECMO-ekstrakorporalna membranska oksigenacija-kardiogeni š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ssist device LV –refrakterna SI-transplantacija sr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MUNOGLOBULINI-2g na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ortikosteroidi-prednison 2mg kg d-nastaviti 0,3 mg k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vno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3 mese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NTIVIRUSNA TERAPIJA-Entero-Pleconaril, EB virus- acyclov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UZROCI SI KOD DE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612720" y="5029200"/>
            <a:ext cx="2651040" cy="161856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Tahoma"/>
              </a:rPr>
              <a:t>POREMECAJI RIT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 blok I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V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funkcija SA cv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506520" y="1905120"/>
            <a:ext cx="3686040" cy="192348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Tahoma"/>
              </a:rPr>
              <a:t>OPTERECENJE VOLUMEN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M (VSD,PDA, AR, M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mpleksna us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emija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p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reotoksiko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566640" y="3962520"/>
            <a:ext cx="3375000" cy="10087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Tahoma"/>
              </a:rPr>
              <a:t>OPTERECENJE PRITISK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M (AS, PS, CoA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pertenz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6"/>
          <p:cNvSpPr/>
          <p:nvPr/>
        </p:nvSpPr>
        <p:spPr>
          <a:xfrm>
            <a:off x="4713120" y="2362320"/>
            <a:ext cx="3594600" cy="161856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Tahoma"/>
              </a:rPr>
              <a:t>SISTOLNA INSUFICIJENC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okardit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lat cardiomio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lnutric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hem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7"/>
          <p:cNvSpPr/>
          <p:nvPr/>
        </p:nvSpPr>
        <p:spPr>
          <a:xfrm>
            <a:off x="4725720" y="4419720"/>
            <a:ext cx="3902400" cy="131364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Tahoma"/>
              </a:rPr>
              <a:t>DIJASTOLNA INSUFICIJENC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pertroficna kardiomiopat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triktivna kardiomiopat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ikarditis ili tampon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1019880" y="2131920"/>
            <a:ext cx="105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5138280" y="2055960"/>
            <a:ext cx="136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RA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4"/>
          <p:cNvSpPr/>
          <p:nvPr/>
        </p:nvSpPr>
        <p:spPr>
          <a:xfrm flipV="1">
            <a:off x="3048120" y="2361600"/>
            <a:ext cx="985680" cy="152280"/>
          </a:xfrm>
          <a:prstGeom prst="leftRightArrow">
            <a:avLst>
              <a:gd name="adj1" fmla="val 50000"/>
              <a:gd name="adj2" fmla="val 1288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958680" y="3233880"/>
            <a:ext cx="26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Tahoma"/>
              </a:rPr>
              <a:t>HR,kontraktil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1018800" y="3995640"/>
            <a:ext cx="99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V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951480" y="4757760"/>
            <a:ext cx="26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ocitna nekro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2268000" y="5967360"/>
            <a:ext cx="571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OREMECAJ KONTRAKTIL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3943440" y="3157560"/>
            <a:ext cx="25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Tahoma"/>
              </a:rPr>
              <a:t>Vasokonstrik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3964680" y="3581280"/>
            <a:ext cx="259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Tahoma"/>
              </a:rPr>
              <a:t>Na/H</a:t>
            </a:r>
            <a:r>
              <a:rPr b="0" lang="en-US" sz="1600" spc="-1" strike="noStrike">
                <a:solidFill>
                  <a:srgbClr val="99cc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99cc00"/>
                </a:solidFill>
                <a:latin typeface="Tahoma"/>
              </a:rPr>
              <a:t>O reten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3950640" y="3843360"/>
            <a:ext cx="22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Tahoma"/>
              </a:rPr>
              <a:t>Pre-i afterlo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2"/>
          <p:cNvSpPr/>
          <p:nvPr/>
        </p:nvSpPr>
        <p:spPr>
          <a:xfrm>
            <a:off x="4213800" y="4757760"/>
            <a:ext cx="157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ll s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3"/>
          <p:cNvSpPr/>
          <p:nvPr/>
        </p:nvSpPr>
        <p:spPr>
          <a:xfrm>
            <a:off x="4038120" y="5443560"/>
            <a:ext cx="190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pertrofi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4"/>
          <p:cNvSpPr/>
          <p:nvPr/>
        </p:nvSpPr>
        <p:spPr>
          <a:xfrm>
            <a:off x="6184080" y="468144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optoz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5"/>
          <p:cNvSpPr/>
          <p:nvPr/>
        </p:nvSpPr>
        <p:spPr>
          <a:xfrm flipH="1">
            <a:off x="1142280" y="2666880"/>
            <a:ext cx="152280" cy="457200"/>
          </a:xfrm>
          <a:prstGeom prst="downArrow">
            <a:avLst>
              <a:gd name="adj1" fmla="val 50000"/>
              <a:gd name="adj2" fmla="val 750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6"/>
          <p:cNvSpPr/>
          <p:nvPr/>
        </p:nvSpPr>
        <p:spPr>
          <a:xfrm>
            <a:off x="1127160" y="346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17"/>
          <p:cNvSpPr/>
          <p:nvPr/>
        </p:nvSpPr>
        <p:spPr>
          <a:xfrm flipH="1">
            <a:off x="1295280" y="3657600"/>
            <a:ext cx="152640" cy="457200"/>
          </a:xfrm>
          <a:prstGeom prst="downArrow">
            <a:avLst>
              <a:gd name="adj1" fmla="val 50000"/>
              <a:gd name="adj2" fmla="val 748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8"/>
          <p:cNvSpPr/>
          <p:nvPr/>
        </p:nvSpPr>
        <p:spPr>
          <a:xfrm>
            <a:off x="1050840" y="4376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9"/>
          <p:cNvSpPr/>
          <p:nvPr/>
        </p:nvSpPr>
        <p:spPr>
          <a:xfrm flipH="1">
            <a:off x="1370880" y="4419720"/>
            <a:ext cx="152280" cy="457200"/>
          </a:xfrm>
          <a:prstGeom prst="downArrow">
            <a:avLst>
              <a:gd name="adj1" fmla="val 50000"/>
              <a:gd name="adj2" fmla="val 750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0"/>
          <p:cNvSpPr/>
          <p:nvPr/>
        </p:nvSpPr>
        <p:spPr>
          <a:xfrm>
            <a:off x="2117880" y="5291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21"/>
          <p:cNvSpPr/>
          <p:nvPr/>
        </p:nvSpPr>
        <p:spPr>
          <a:xfrm flipH="1">
            <a:off x="2513880" y="5410080"/>
            <a:ext cx="152280" cy="457200"/>
          </a:xfrm>
          <a:prstGeom prst="downArrow">
            <a:avLst>
              <a:gd name="adj1" fmla="val 50000"/>
              <a:gd name="adj2" fmla="val 750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2"/>
          <p:cNvSpPr/>
          <p:nvPr/>
        </p:nvSpPr>
        <p:spPr>
          <a:xfrm>
            <a:off x="5546880" y="254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23"/>
          <p:cNvSpPr/>
          <p:nvPr/>
        </p:nvSpPr>
        <p:spPr>
          <a:xfrm flipH="1">
            <a:off x="5562000" y="2666880"/>
            <a:ext cx="152280" cy="457200"/>
          </a:xfrm>
          <a:prstGeom prst="downArrow">
            <a:avLst>
              <a:gd name="adj1" fmla="val 50000"/>
              <a:gd name="adj2" fmla="val 750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24"/>
          <p:cNvSpPr/>
          <p:nvPr/>
        </p:nvSpPr>
        <p:spPr>
          <a:xfrm>
            <a:off x="4632480" y="4224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25"/>
          <p:cNvSpPr/>
          <p:nvPr/>
        </p:nvSpPr>
        <p:spPr>
          <a:xfrm flipH="1">
            <a:off x="4876200" y="4419720"/>
            <a:ext cx="152280" cy="457200"/>
          </a:xfrm>
          <a:prstGeom prst="downArrow">
            <a:avLst>
              <a:gd name="adj1" fmla="val 50000"/>
              <a:gd name="adj2" fmla="val 750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26"/>
          <p:cNvSpPr/>
          <p:nvPr/>
        </p:nvSpPr>
        <p:spPr>
          <a:xfrm>
            <a:off x="4861080" y="506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27"/>
          <p:cNvSpPr/>
          <p:nvPr/>
        </p:nvSpPr>
        <p:spPr>
          <a:xfrm flipH="1">
            <a:off x="4876200" y="5105520"/>
            <a:ext cx="152280" cy="457200"/>
          </a:xfrm>
          <a:prstGeom prst="downArrow">
            <a:avLst>
              <a:gd name="adj1" fmla="val 50000"/>
              <a:gd name="adj2" fmla="val 750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8"/>
          <p:cNvSpPr/>
          <p:nvPr/>
        </p:nvSpPr>
        <p:spPr>
          <a:xfrm>
            <a:off x="4822920" y="6012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29"/>
          <p:cNvSpPr/>
          <p:nvPr/>
        </p:nvSpPr>
        <p:spPr>
          <a:xfrm flipH="1">
            <a:off x="4799880" y="5791320"/>
            <a:ext cx="152280" cy="2286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0"/>
          <p:cNvSpPr/>
          <p:nvPr/>
        </p:nvSpPr>
        <p:spPr>
          <a:xfrm>
            <a:off x="6461280" y="5291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1"/>
          <p:cNvSpPr/>
          <p:nvPr/>
        </p:nvSpPr>
        <p:spPr>
          <a:xfrm>
            <a:off x="6629400" y="5334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2"/>
          <p:cNvSpPr/>
          <p:nvPr/>
        </p:nvSpPr>
        <p:spPr>
          <a:xfrm>
            <a:off x="6689880" y="5291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33"/>
          <p:cNvSpPr/>
          <p:nvPr/>
        </p:nvSpPr>
        <p:spPr>
          <a:xfrm flipH="1">
            <a:off x="6476400" y="5334120"/>
            <a:ext cx="152280" cy="457200"/>
          </a:xfrm>
          <a:prstGeom prst="downArrow">
            <a:avLst>
              <a:gd name="adj1" fmla="val 50000"/>
              <a:gd name="adj2" fmla="val 750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34"/>
          <p:cNvSpPr/>
          <p:nvPr/>
        </p:nvSpPr>
        <p:spPr>
          <a:xfrm>
            <a:off x="6172200" y="2743200"/>
            <a:ext cx="83808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35"/>
          <p:cNvSpPr/>
          <p:nvPr/>
        </p:nvSpPr>
        <p:spPr>
          <a:xfrm flipH="1">
            <a:off x="5638320" y="2743200"/>
            <a:ext cx="30492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36"/>
          <p:cNvSpPr/>
          <p:nvPr/>
        </p:nvSpPr>
        <p:spPr>
          <a:xfrm>
            <a:off x="1981080" y="2666880"/>
            <a:ext cx="2362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37"/>
          <p:cNvSpPr/>
          <p:nvPr/>
        </p:nvSpPr>
        <p:spPr>
          <a:xfrm>
            <a:off x="1600200" y="2819520"/>
            <a:ext cx="1447920" cy="19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38"/>
          <p:cNvSpPr/>
          <p:nvPr/>
        </p:nvSpPr>
        <p:spPr>
          <a:xfrm>
            <a:off x="1905120" y="2743200"/>
            <a:ext cx="251460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39"/>
          <p:cNvSpPr/>
          <p:nvPr/>
        </p:nvSpPr>
        <p:spPr>
          <a:xfrm>
            <a:off x="838080" y="4114800"/>
            <a:ext cx="2286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40"/>
          <p:cNvSpPr/>
          <p:nvPr/>
        </p:nvSpPr>
        <p:spPr>
          <a:xfrm>
            <a:off x="3755880" y="4106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41"/>
          <p:cNvSpPr/>
          <p:nvPr/>
        </p:nvSpPr>
        <p:spPr>
          <a:xfrm>
            <a:off x="3733920" y="4038480"/>
            <a:ext cx="2286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42"/>
          <p:cNvSpPr/>
          <p:nvPr/>
        </p:nvSpPr>
        <p:spPr>
          <a:xfrm>
            <a:off x="3946680" y="4681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43"/>
          <p:cNvSpPr/>
          <p:nvPr/>
        </p:nvSpPr>
        <p:spPr>
          <a:xfrm>
            <a:off x="4038480" y="4800600"/>
            <a:ext cx="2286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44"/>
          <p:cNvSpPr/>
          <p:nvPr/>
        </p:nvSpPr>
        <p:spPr>
          <a:xfrm>
            <a:off x="746280" y="3233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45"/>
          <p:cNvSpPr/>
          <p:nvPr/>
        </p:nvSpPr>
        <p:spPr>
          <a:xfrm>
            <a:off x="838080" y="3352680"/>
            <a:ext cx="2286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6"/>
          <p:cNvSpPr/>
          <p:nvPr/>
        </p:nvSpPr>
        <p:spPr>
          <a:xfrm>
            <a:off x="7312680" y="2057400"/>
            <a:ext cx="115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AN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47"/>
          <p:cNvSpPr/>
          <p:nvPr/>
        </p:nvSpPr>
        <p:spPr>
          <a:xfrm>
            <a:off x="6781680" y="2209680"/>
            <a:ext cx="381240" cy="304920"/>
          </a:xfrm>
          <a:prstGeom prst="leftArrow">
            <a:avLst>
              <a:gd name="adj1" fmla="val 50000"/>
              <a:gd name="adj2" fmla="val 312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8"/>
          <p:cNvSpPr/>
          <p:nvPr/>
        </p:nvSpPr>
        <p:spPr>
          <a:xfrm>
            <a:off x="7680240" y="2548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49"/>
          <p:cNvSpPr/>
          <p:nvPr/>
        </p:nvSpPr>
        <p:spPr>
          <a:xfrm flipH="1">
            <a:off x="6012000" y="2852640"/>
            <a:ext cx="213336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2400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NEUROHUMORALNI MEHANIZ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51"/>
          <p:cNvSpPr/>
          <p:nvPr/>
        </p:nvSpPr>
        <p:spPr>
          <a:xfrm>
            <a:off x="3265920" y="2565360"/>
            <a:ext cx="7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M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114300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LE</a:t>
            </a:r>
            <a:r>
              <a:rPr b="0" lang="sr-Latn-CS" sz="4400" spc="-1" strike="noStrike">
                <a:solidFill>
                  <a:srgbClr val="ff00ff"/>
                </a:solidFill>
                <a:latin typeface="Arial"/>
              </a:rPr>
              <a:t>Č</a:t>
            </a: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ENJE HRONICNE 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71640" y="2490480"/>
            <a:ext cx="7283520" cy="31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kriti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zr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URETICI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(Lasix, Spironolakt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CE INHIBITOR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(L-D,MI, AI, dilat. Car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OTROPNI AGENSI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Digox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ROHUMORALNI MODULAT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HRANA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(gastrostoma, ng sond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PREPORU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78480" y="2895480"/>
            <a:ext cx="4321440" cy="45972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na komorska funk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4749480" y="2895480"/>
            <a:ext cx="4228200" cy="45972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te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 komorska funk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549360" y="3809880"/>
            <a:ext cx="2040120" cy="119124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E inhib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uret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Ishr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493920" y="5791320"/>
            <a:ext cx="3228840" cy="82548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dati Digok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dati Spironolak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7"/>
          <p:cNvSpPr/>
          <p:nvPr/>
        </p:nvSpPr>
        <p:spPr>
          <a:xfrm>
            <a:off x="4968720" y="3809880"/>
            <a:ext cx="2040120" cy="155700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E inhib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ahoma"/>
              </a:rPr>
              <a:t>Digok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ahoma"/>
              </a:rPr>
              <a:t>Diuret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Ishr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8"/>
          <p:cNvSpPr/>
          <p:nvPr/>
        </p:nvSpPr>
        <p:spPr>
          <a:xfrm>
            <a:off x="5082120" y="5791320"/>
            <a:ext cx="3488040" cy="82548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dati Spironolak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Blokatori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ß receptor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9"/>
          <p:cNvSpPr/>
          <p:nvPr/>
        </p:nvSpPr>
        <p:spPr>
          <a:xfrm rot="2943000">
            <a:off x="2057400" y="243792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0"/>
          <p:cNvSpPr/>
          <p:nvPr/>
        </p:nvSpPr>
        <p:spPr>
          <a:xfrm>
            <a:off x="623268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11"/>
          <p:cNvSpPr/>
          <p:nvPr/>
        </p:nvSpPr>
        <p:spPr>
          <a:xfrm rot="18112800">
            <a:off x="6095880" y="243792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2"/>
          <p:cNvSpPr/>
          <p:nvPr/>
        </p:nvSpPr>
        <p:spPr>
          <a:xfrm>
            <a:off x="1050840" y="323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13"/>
          <p:cNvSpPr/>
          <p:nvPr/>
        </p:nvSpPr>
        <p:spPr>
          <a:xfrm>
            <a:off x="2133720" y="335268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4"/>
          <p:cNvSpPr/>
          <p:nvPr/>
        </p:nvSpPr>
        <p:spPr>
          <a:xfrm>
            <a:off x="5622840" y="323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15"/>
          <p:cNvSpPr/>
          <p:nvPr/>
        </p:nvSpPr>
        <p:spPr>
          <a:xfrm>
            <a:off x="5791320" y="335268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6"/>
          <p:cNvSpPr/>
          <p:nvPr/>
        </p:nvSpPr>
        <p:spPr>
          <a:xfrm>
            <a:off x="1736640" y="4986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17"/>
          <p:cNvSpPr/>
          <p:nvPr/>
        </p:nvSpPr>
        <p:spPr>
          <a:xfrm>
            <a:off x="2286000" y="510552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8"/>
          <p:cNvSpPr/>
          <p:nvPr/>
        </p:nvSpPr>
        <p:spPr>
          <a:xfrm>
            <a:off x="5699160" y="521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19"/>
          <p:cNvSpPr/>
          <p:nvPr/>
        </p:nvSpPr>
        <p:spPr>
          <a:xfrm>
            <a:off x="6172200" y="533412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990000" y="380880"/>
            <a:ext cx="52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MPTOMI </a:t>
            </a:r>
            <a:r>
              <a:rPr b="0" lang="sl-SI" sz="3600" spc="-1" strike="noStrike">
                <a:solidFill>
                  <a:srgbClr val="000000"/>
                </a:solidFill>
                <a:latin typeface="Times New Roman"/>
              </a:rPr>
              <a:t> I ZNACI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0" lang="sl-SI" sz="36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JOJ KARDIOLOGIJ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1766880" y="1844640"/>
            <a:ext cx="4452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00"/>
                </a:solidFill>
                <a:latin typeface="Times New Roman"/>
              </a:rPr>
              <a:t>Cijanoz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labo napredovan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Zamaran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00"/>
                </a:solidFill>
                <a:latin typeface="Times New Roman"/>
              </a:rPr>
              <a:t>Tahipn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00"/>
                </a:solidFill>
                <a:latin typeface="Times New Roman"/>
              </a:rPr>
              <a:t>Sinkop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00"/>
                </a:solidFill>
                <a:latin typeface="Times New Roman"/>
              </a:rPr>
              <a:t>Palpitac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00"/>
                </a:solidFill>
                <a:latin typeface="Times New Roman"/>
              </a:rPr>
              <a:t>Bol u grudi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00"/>
                </a:solidFill>
                <a:latin typeface="Times New Roman"/>
              </a:rPr>
              <a:t>Šum slučajno otkri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00ff"/>
                </a:solidFill>
                <a:latin typeface="Arial"/>
              </a:rPr>
              <a:t>KAT</a:t>
            </a: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E</a:t>
            </a:r>
            <a:r>
              <a:rPr b="0" lang="sr-Latn-CS" sz="4400" spc="-1" strike="noStrike">
                <a:solidFill>
                  <a:srgbClr val="ff00ff"/>
                </a:solidFill>
                <a:latin typeface="Arial"/>
              </a:rPr>
              <a:t>HOLAMI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39640" y="2327400"/>
            <a:ext cx="815832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timulacij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ß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receptor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Akutna dekompenz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Oprez kod PAH (bolji Dobutam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Visok bazični nivo simpatičke neurohumoralne aktivnosti kod n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Desenzibilizacija 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dow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regulaci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ARTERIJSKI PRITIS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alpacija pulseva nije dovoljna kod CoA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erenje pritiska na </a:t>
            </a:r>
            <a:r>
              <a:rPr b="0" lang="sr-Latn-CS" sz="2800" spc="-1" strike="noStrike">
                <a:solidFill>
                  <a:srgbClr val="ff0000"/>
                </a:solidFill>
                <a:latin typeface="Arial"/>
              </a:rPr>
              <a:t>sva 4 ekstremit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Živin manometar- </a:t>
            </a:r>
            <a:r>
              <a:rPr b="0" lang="sr-Latn-CS" sz="2800" spc="-1" strike="noStrike">
                <a:solidFill>
                  <a:srgbClr val="ff0000"/>
                </a:solidFill>
                <a:latin typeface="Arial"/>
              </a:rPr>
              <a:t>2/3 nadlaktic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(3,5,7,12,18 cm manžet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vi Korotkoffov ton-sistolni pritis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Ton postaje prigušen pre nego se izgubi-prigušeni ton je dijastolni pritisak ili izmeđ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Arial"/>
              </a:rPr>
              <a:t>Pritisak na nogama veći za 10 mmHg nego na ruk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Ta zavisi od uzrasta, TT i TV (tabe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Šum zdravog srca (bezazlen šum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jačava se pri febril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ormalan razvo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ormalana aktiv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Gubi se sa godin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KG, EHO, RO-normal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bjasniti roditelj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Diagram 5"/>
          <p:cNvGrpSpPr/>
          <p:nvPr/>
        </p:nvGrpSpPr>
        <p:grpSpPr>
          <a:xfrm>
            <a:off x="1049400" y="853920"/>
            <a:ext cx="7044840" cy="3536280"/>
            <a:chOff x="1049400" y="853920"/>
            <a:chExt cx="7044840" cy="3536280"/>
          </a:xfrm>
        </p:grpSpPr>
        <p:sp>
          <p:nvSpPr>
            <p:cNvPr id="60" name="_s1028"/>
            <p:cNvSpPr/>
            <p:nvPr/>
          </p:nvSpPr>
          <p:spPr>
            <a:xfrm>
              <a:off x="3619440" y="1482120"/>
              <a:ext cx="1904760" cy="1794960"/>
            </a:xfrm>
            <a:prstGeom prst="ellipse">
              <a:avLst/>
            </a:prstGeom>
            <a:solidFill>
              <a:srgbClr val="333399">
                <a:alpha val="50000"/>
              </a:srgbClr>
            </a:solidFill>
            <a:ln w="4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1029"/>
            <p:cNvSpPr/>
            <p:nvPr/>
          </p:nvSpPr>
          <p:spPr>
            <a:xfrm>
              <a:off x="3619440" y="853920"/>
              <a:ext cx="1904760" cy="44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200" spc="-1" strike="noStrike">
                  <a:solidFill>
                    <a:srgbClr val="000000"/>
                  </a:solidFill>
                  <a:latin typeface="Arial"/>
                </a:rPr>
                <a:t>ЦИЈАНОЗА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200" spc="-1" strike="noStrike">
                  <a:solidFill>
                    <a:srgbClr val="000000"/>
                  </a:solidFill>
                  <a:latin typeface="Arial"/>
                </a:rPr>
                <a:t>Физикални преглед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200" spc="-1" strike="noStrike">
                  <a:solidFill>
                    <a:srgbClr val="000000"/>
                  </a:solidFill>
                  <a:latin typeface="Arial"/>
                </a:rPr>
                <a:t>ОКСИМЕТРИЈ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030"/>
            <p:cNvSpPr/>
            <p:nvPr/>
          </p:nvSpPr>
          <p:spPr>
            <a:xfrm>
              <a:off x="4245480" y="2506320"/>
              <a:ext cx="1905120" cy="179460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1031"/>
            <p:cNvSpPr/>
            <p:nvPr/>
          </p:nvSpPr>
          <p:spPr>
            <a:xfrm>
              <a:off x="6189480" y="3942000"/>
              <a:ext cx="190476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200" spc="-1" strike="noStrike">
                  <a:solidFill>
                    <a:srgbClr val="000000"/>
                  </a:solidFill>
                  <a:latin typeface="Arial"/>
                </a:rPr>
                <a:t>3. </a:t>
              </a:r>
              <a:r>
                <a:rPr b="1" lang="sr-CS" sz="1200" spc="-1" strike="noStrike">
                  <a:solidFill>
                    <a:srgbClr val="000000"/>
                  </a:solidFill>
                  <a:latin typeface="Arial"/>
                </a:rPr>
                <a:t>ЕКГ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200" spc="-1" strike="noStrike">
                  <a:solidFill>
                    <a:srgbClr val="000000"/>
                  </a:solidFill>
                  <a:latin typeface="Arial"/>
                </a:rPr>
                <a:t>Хипертрофиј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200" spc="-1" strike="noStrike">
                  <a:solidFill>
                    <a:srgbClr val="000000"/>
                  </a:solidFill>
                  <a:latin typeface="Arial"/>
                </a:rPr>
                <a:t>Десне комор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200" spc="-1" strike="noStrike">
                  <a:solidFill>
                    <a:srgbClr val="000000"/>
                  </a:solidFill>
                  <a:latin typeface="Arial"/>
                </a:rPr>
                <a:t>Леве комор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200" spc="-1" strike="noStrike">
                  <a:solidFill>
                    <a:srgbClr val="000000"/>
                  </a:solidFill>
                  <a:latin typeface="Arial"/>
                </a:rPr>
                <a:t>Бивентрикуларна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1032"/>
            <p:cNvSpPr/>
            <p:nvPr/>
          </p:nvSpPr>
          <p:spPr>
            <a:xfrm>
              <a:off x="2991240" y="2504160"/>
              <a:ext cx="1904760" cy="179496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46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1033"/>
            <p:cNvSpPr/>
            <p:nvPr/>
          </p:nvSpPr>
          <p:spPr>
            <a:xfrm>
              <a:off x="1049400" y="3942000"/>
              <a:ext cx="190476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200" spc="-1" strike="noStrike">
                  <a:solidFill>
                    <a:srgbClr val="000000"/>
                  </a:solidFill>
                  <a:latin typeface="Arial"/>
                </a:rPr>
                <a:t>2. </a:t>
              </a:r>
              <a:r>
                <a:rPr b="1" lang="sr-CS" sz="1200" spc="-1" strike="noStrike">
                  <a:solidFill>
                    <a:srgbClr val="000000"/>
                  </a:solidFill>
                  <a:latin typeface="Arial"/>
                </a:rPr>
                <a:t>ПЛУЋНА ВАСКУЛАРНА ШАР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200" spc="-1" strike="noStrike">
                  <a:solidFill>
                    <a:srgbClr val="000000"/>
                  </a:solidFill>
                  <a:latin typeface="Arial"/>
                </a:rPr>
                <a:t>Повећан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200" spc="-1" strike="noStrike">
                  <a:solidFill>
                    <a:srgbClr val="000000"/>
                  </a:solidFill>
                  <a:latin typeface="Arial"/>
                </a:rPr>
                <a:t>Нормалн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200" spc="-1" strike="noStrike">
                  <a:solidFill>
                    <a:srgbClr val="000000"/>
                  </a:solidFill>
                  <a:latin typeface="Arial"/>
                </a:rPr>
                <a:t>Смањен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200" spc="-1" strike="noStrike">
                  <a:solidFill>
                    <a:srgbClr val="000000"/>
                  </a:solidFill>
                  <a:latin typeface="Arial"/>
                </a:rPr>
                <a:t>РЕНДГЕН ПЛУЋ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Text Box 16"/>
          <p:cNvSpPr/>
          <p:nvPr/>
        </p:nvSpPr>
        <p:spPr>
          <a:xfrm>
            <a:off x="2761560" y="4876920"/>
            <a:ext cx="3887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СРЧАНИ ТОНОВИ И ШУМОВ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5. ЕХОКАРДИОГРАФ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6. СКЕН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ГНЕТНА РЕЗОНАН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8. КАТЕТЕРИЗАЦИЈА СР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7"/>
          <p:cNvSpPr/>
          <p:nvPr/>
        </p:nvSpPr>
        <p:spPr>
          <a:xfrm>
            <a:off x="5417280" y="533520"/>
            <a:ext cx="3036600" cy="82548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АНЕ СА ИЛИ БЕ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ЦИЈАНО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8"/>
          <p:cNvSpPr/>
          <p:nvPr/>
        </p:nvSpPr>
        <p:spPr>
          <a:xfrm>
            <a:off x="313200" y="990720"/>
            <a:ext cx="2716560" cy="192276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ОВЕЋА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ОРМАЛН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МАЊЕ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ЛУЋН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ВАСКУЛАТУ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9"/>
          <p:cNvSpPr/>
          <p:nvPr/>
        </p:nvSpPr>
        <p:spPr>
          <a:xfrm>
            <a:off x="5572440" y="1752480"/>
            <a:ext cx="3318480" cy="15570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Л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ДЕС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БИВЕНТРИКУЛАР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ХИПЕРТРОФ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УСМ БЕЗ ЦИЈАНОЗЕ</a:t>
            </a:r>
            <a:br>
              <a:rPr sz="4000"/>
            </a:b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(рендген и ЕКГ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1752480" y="1905120"/>
            <a:ext cx="54104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ОЛУМНО ОПТЕРЕЋЕ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1905120" y="4343400"/>
            <a:ext cx="54100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ПТЕРЕЋЕЊЕ ПРИТИС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228600" y="3200400"/>
            <a:ext cx="3962520" cy="642600"/>
          </a:xfrm>
          <a:prstGeom prst="rect">
            <a:avLst/>
          </a:prstGeom>
          <a:solidFill>
            <a:srgbClr val="d1cf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СМ СА ЛЕВО-ДЕСНИМ ШАН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4656240" y="3200400"/>
            <a:ext cx="4296960" cy="642600"/>
          </a:xfrm>
          <a:prstGeom prst="rect">
            <a:avLst/>
          </a:prstGeom>
          <a:solidFill>
            <a:srgbClr val="d1cf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ГУРГИТАЦИЈА НА АВ ВАЛВУ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РДИОМИОПАТ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3360960" y="5715000"/>
            <a:ext cx="2856960" cy="916920"/>
          </a:xfrm>
          <a:prstGeom prst="rect">
            <a:avLst/>
          </a:prstGeom>
          <a:solidFill>
            <a:srgbClr val="d1cf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теноза аор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теноза плућне артер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арктација аор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0"/>
          <p:cNvSpPr/>
          <p:nvPr/>
        </p:nvSpPr>
        <p:spPr>
          <a:xfrm flipH="1">
            <a:off x="2361960" y="29718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1"/>
          <p:cNvSpPr/>
          <p:nvPr/>
        </p:nvSpPr>
        <p:spPr>
          <a:xfrm>
            <a:off x="4952880" y="29718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2"/>
          <p:cNvSpPr/>
          <p:nvPr/>
        </p:nvSpPr>
        <p:spPr>
          <a:xfrm>
            <a:off x="4495680" y="5257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533520" y="838080"/>
            <a:ext cx="830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5546880" y="1031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5700600" y="1031760"/>
            <a:ext cx="1857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1127160" y="1031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4387680" y="1447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3467160" y="28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3943440" y="27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3"/>
          <p:cNvSpPr/>
          <p:nvPr/>
        </p:nvSpPr>
        <p:spPr>
          <a:xfrm>
            <a:off x="3943440" y="27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4"/>
          <p:cNvSpPr/>
          <p:nvPr/>
        </p:nvSpPr>
        <p:spPr>
          <a:xfrm>
            <a:off x="3809880" y="2719440"/>
            <a:ext cx="9277560" cy="1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Object 1040" descr=""/>
          <p:cNvPicPr/>
          <p:nvPr/>
        </p:nvPicPr>
        <p:blipFill>
          <a:blip r:embed="rId1"/>
          <a:stretch/>
        </p:blipFill>
        <p:spPr>
          <a:xfrm>
            <a:off x="5362560" y="380880"/>
            <a:ext cx="3309840" cy="373392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6"/>
          <p:cNvSpPr/>
          <p:nvPr/>
        </p:nvSpPr>
        <p:spPr>
          <a:xfrm>
            <a:off x="274320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7"/>
          <p:cNvSpPr/>
          <p:nvPr/>
        </p:nvSpPr>
        <p:spPr>
          <a:xfrm>
            <a:off x="0" y="1143000"/>
            <a:ext cx="612144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0000"/>
                </a:solidFill>
                <a:latin typeface="Times New Roman"/>
              </a:rPr>
              <a:t>Patolog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Secundum ASD (ASD/II) (F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Sinoseptalni defek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SVC sinus venosus (RPV u RA) A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IVC sinus venosus ASD –Scimitar sy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us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onarius ASD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i CS                    komunikacija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Primum A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Common atrum (R-L šant-cijanoza) (PM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8"/>
          <p:cNvSpPr/>
          <p:nvPr/>
        </p:nvSpPr>
        <p:spPr>
          <a:xfrm>
            <a:off x="4488840" y="345960"/>
            <a:ext cx="772200" cy="459720"/>
          </a:xfrm>
          <a:prstGeom prst="rect">
            <a:avLst/>
          </a:prstGeom>
          <a:noFill/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V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9"/>
          <p:cNvSpPr/>
          <p:nvPr/>
        </p:nvSpPr>
        <p:spPr>
          <a:xfrm>
            <a:off x="5784120" y="4178160"/>
            <a:ext cx="704880" cy="459720"/>
          </a:xfrm>
          <a:prstGeom prst="rect">
            <a:avLst/>
          </a:prstGeom>
          <a:noFill/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V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0"/>
          <p:cNvSpPr/>
          <p:nvPr/>
        </p:nvSpPr>
        <p:spPr>
          <a:xfrm>
            <a:off x="3848040" y="990720"/>
            <a:ext cx="1447920" cy="459720"/>
          </a:xfrm>
          <a:prstGeom prst="rect">
            <a:avLst/>
          </a:prstGeom>
          <a:noFill/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SV A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1"/>
          <p:cNvSpPr/>
          <p:nvPr/>
        </p:nvSpPr>
        <p:spPr>
          <a:xfrm>
            <a:off x="4039200" y="1600200"/>
            <a:ext cx="1078200" cy="459720"/>
          </a:xfrm>
          <a:prstGeom prst="rect">
            <a:avLst/>
          </a:prstGeom>
          <a:noFill/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ASD/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2"/>
          <p:cNvSpPr/>
          <p:nvPr/>
        </p:nvSpPr>
        <p:spPr>
          <a:xfrm>
            <a:off x="4352040" y="2666880"/>
            <a:ext cx="976320" cy="459720"/>
          </a:xfrm>
          <a:prstGeom prst="rect">
            <a:avLst/>
          </a:prstGeom>
          <a:noFill/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ASD/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6T07:38:19Z</dcterms:created>
  <dc:creator>user</dc:creator>
  <dc:description/>
  <dc:language>en-US</dc:language>
  <cp:lastModifiedBy>Korisnik</cp:lastModifiedBy>
  <dcterms:modified xsi:type="dcterms:W3CDTF">2018-09-13T06:53:15Z</dcterms:modified>
  <cp:revision>3</cp:revision>
  <dc:subject/>
  <dc:title>Slide 1</dc:title>
</cp:coreProperties>
</file>